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EEC-9604-452F-B977-B8A033C2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DAA-E122-44C7-8C89-E8B49559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0A3-FA52-4599-B145-078B3E59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A3F-5308-4FD9-A741-EB9848C8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6FAF-6A84-44B0-803A-DF4A30A6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56EC-1106-4824-B442-9CA68E00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962C-1456-49F1-8E72-C1C63D33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AA9E-B0FA-4CB2-8B8D-2FA26D46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9BDE-3569-4D14-B604-78C8CA35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3935-54CF-47C3-8D07-C9E5EA51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0496-BB4D-4246-9CBD-63657C68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AEB-BFA6-414B-816D-34CDAA63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9019-05A6-4B29-BA66-D1979CA2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15E9-024C-44AD-B063-EF7ED75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6300-0C37-4352-B26A-0B8BE57D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CB0D-25EE-437C-A57C-55ED58A1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F2A1-7656-49A4-976A-48AC1FB2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BC4-405F-410D-8954-FD60ACBC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401-19EB-4E42-BBB3-AFE973CA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2C3-F3DE-4714-8155-C464D485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0D2-6337-4D22-B633-BA443D2A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3E8-9D64-4247-AF15-31116837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C78-8790-42DB-800B-AE1CD07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399-CBC7-421A-8886-94EE6DA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C7AD-C0C1-482B-8D9C-A06B98CFF17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8DE6-19FC-43E4-B4EE-5AEF0BE1075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404640"/>
            <a:ext cx="7848720" cy="81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ffffff"/>
                </a:solidFill>
                <a:uFillTx/>
                <a:latin typeface="Times New Roman"/>
              </a:rPr>
              <a:t>JARYAS O CANCIONES DE MUJERES DE TIPO TR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requerimiento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confidente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os vais, ¡oh señor!,                                “¿Qué haré yo, mam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ntes quiero besaros la boca roja,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mi amigo ya se va;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ermeja como la cúrcuma”.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yo le quiero quieto.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Si tanto no le amase!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señor Ibrahim,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“¡Mamá, qué amigo!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oh dulce nombre!,                                     bajo la guedejilla rubit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vente a mí de noche.                                  el cuello al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no quieres,                                              y la boca coloradita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reme a ti,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me a dond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 verte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o te amaré                                            “Decidme ¡oh gente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no es con la condición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¿qué os parec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que unas mis ajorcas</a:t>
            </a: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                       ¡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or Dios! Como mi seño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on mis pendientes”.                                su medicina no me da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312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84200" y="13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3120" y="209520"/>
            <a:ext cx="82296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requerimiento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confidente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miguito, decídet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“¡Dime antes que te mat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ven a tomarme,                                        ¡Quién soltó tus zaragüel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ésame la boc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No fue el amigo nuevo, mad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priétame los pechos;                              fue el antiguo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junta ajorca y pendient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marido está ocupado”.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queja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Al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 improviso, besó mi boca,                       “Ven, hechice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e lo diré a mi madre”.                                   alba que está con tan bello fulg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uando viene pide amor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Por Dios!, me desahogué gritando,             “No dormiré, mamá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e ha roto mi pecho,                                      al rayar el alb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e ha herido mis labios                                  viene Abul_Qas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y me ha deshecho el collar!”                           con faz de aurora”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42920" y="836640"/>
            <a:ext cx="6778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aus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¿Qué haré o que será de mi amig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No te vayas de mí!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me cómo llorar esta aus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No tant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Ay de los ojos de la enamo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no estás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!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amigo se retr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¿Quién ocultó la lu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ara que se perd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y errase el camino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2:20:02Z</dcterms:created>
  <dc:creator> </dc:creator>
  <dc:description/>
  <dc:language>en-US</dc:language>
  <cp:lastModifiedBy> </cp:lastModifiedBy>
  <dcterms:modified xsi:type="dcterms:W3CDTF">2007-10-03T23:01:01Z</dcterms:modified>
  <cp:revision>4</cp:revision>
  <dc:subject/>
  <dc:title>Diapositiva 1</dc:title>
</cp:coreProperties>
</file>